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AD8-7122-4638-AD34-95B5D71B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831-2A9E-4470-B8CA-69AD830A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60B-8BB7-44C1-BA3D-B9B45380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6DA-D9BA-412C-B00B-77B96EC8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7A2A-4D2D-44E2-B9C5-B8988648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B235-433F-4047-B3B2-2C9F27B4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155E-455E-428B-B308-ADFA32CF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D940-3989-433E-ABC5-81FDE1A0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C961-2C30-4BC2-9596-C56BC992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A0DE-0EFF-426E-AA5C-08787128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9B77-3F61-49B4-9EF6-84F98634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76E-F62C-4608-BA0F-F8F4F607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6C7B-8719-4BE8-9F2D-33CDF333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DCD4-5C0F-4F71-9E75-146679FC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FF1C-F3C1-4B98-B8CE-A280ECF3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AA34-DA85-49CF-A191-1CA0FA3A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5042-A7E9-4BC7-8EC5-3E552939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1B9-7A60-4C6F-BA68-D901F8ED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441-B838-438A-9236-1CB79ABC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1AC-E76D-445B-9F95-D139C1B7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C18-4C47-4053-A3AB-267C880F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AA8-70A6-42F4-ACDB-58B8FF06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165-198D-45C1-A596-A757A56F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1C3-1092-480D-A32A-527F5649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91D3-8DDD-48A0-91FF-6874A52B8D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67E7-AAF3-49F7-BAAF-4DDF05CDFF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6.xml"/><Relationship Id="rId15" Type="http://schemas.openxmlformats.org/officeDocument/2006/relationships/slide" Target="slide16.xml"/><Relationship Id="rId16" Type="http://schemas.openxmlformats.org/officeDocument/2006/relationships/slide" Target="slide16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2.xml"/><Relationship Id="rId22" Type="http://schemas.openxmlformats.org/officeDocument/2006/relationships/slide" Target="slide25.xml"/><Relationship Id="rId23" Type="http://schemas.openxmlformats.org/officeDocument/2006/relationships/slide" Target="slide25.xml"/><Relationship Id="rId24" Type="http://schemas.openxmlformats.org/officeDocument/2006/relationships/slide" Target="slide25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28.xml"/><Relationship Id="rId28" Type="http://schemas.openxmlformats.org/officeDocument/2006/relationships/slide" Target="slide31.xml"/><Relationship Id="rId29" Type="http://schemas.openxmlformats.org/officeDocument/2006/relationships/slide" Target="slide31.xml"/><Relationship Id="rId30" Type="http://schemas.openxmlformats.org/officeDocument/2006/relationships/slide" Target="slide31.xml"/><Relationship Id="rId31" Type="http://schemas.openxmlformats.org/officeDocument/2006/relationships/slide" Target="slide3.xml"/><Relationship Id="rId32" Type="http://schemas.openxmlformats.org/officeDocument/2006/relationships/slide" Target="slide3.xml"/><Relationship Id="rId33" Type="http://schemas.openxmlformats.org/officeDocument/2006/relationships/slide" Target="slide3.xml"/><Relationship Id="rId34" Type="http://schemas.openxmlformats.org/officeDocument/2006/relationships/slide" Target="slide3.xml"/><Relationship Id="rId35" Type="http://schemas.openxmlformats.org/officeDocument/2006/relationships/slide" Target="slide3.xml"/><Relationship Id="rId36" Type="http://schemas.openxmlformats.org/officeDocument/2006/relationships/slide" Target="slide3.xml"/><Relationship Id="rId37" Type="http://schemas.openxmlformats.org/officeDocument/2006/relationships/slide" Target="slide3.xml"/><Relationship Id="rId38" Type="http://schemas.openxmlformats.org/officeDocument/2006/relationships/slide" Target="slide3.xml"/><Relationship Id="rId39" Type="http://schemas.openxmlformats.org/officeDocument/2006/relationships/slide" Target="slide3.xml"/><Relationship Id="rId40" Type="http://schemas.openxmlformats.org/officeDocument/2006/relationships/slide" Target="slide3.xml"/><Relationship Id="rId41" Type="http://schemas.openxmlformats.org/officeDocument/2006/relationships/slide" Target="slide3.xml"/><Relationship Id="rId4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48320" cy="360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 rot="20578200">
            <a:off x="761760" y="4191120"/>
            <a:ext cx="7543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r Classroom Edi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4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4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rd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2nd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2nd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1st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8" action="ppaction://hlinksldjump"/>
              </a:rPr>
              <a:t>1st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2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4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6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7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9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40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1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Stephen Torrance User</cp:lastModifiedBy>
  <dcterms:modified xsi:type="dcterms:W3CDTF">2009-03-17T01:05:55Z</dcterms:modified>
  <cp:revision>20</cp:revision>
  <dc:subject/>
  <dc:title>Are You Smarter  Than a 5th Grader?</dc:title>
</cp:coreProperties>
</file>